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7862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A50-D7EC-4777-A340-2CFDA1CD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7DF-AC5C-4244-A6D9-3DB122FE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BB1-5277-46E7-A725-6D0B72BC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93B-E75A-4005-B627-512E5B2F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68C-1FE7-4FBF-9385-E5D0EA94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391-F2A2-406A-AEB1-2811D046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C73-A601-4EA7-B9A8-062141FC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845-6596-40EB-8192-99D1ECC7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E86-9C1A-47AE-9159-19E772D5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96D-A55A-4BA1-A909-043EFB7D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625-DF41-4177-A46B-0AE1C05C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785-70BB-48A9-86AE-BCC14F68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6871-D7BF-4A4B-A56F-1221D3DA9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DOKUMENTŲ VALDYMAS </a:t>
            </a:r>
            <a:br>
              <a:rPr sz="4000"/>
            </a:b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Vilma Šablinskienė</a:t>
            </a:r>
            <a:br>
              <a:rPr sz="1600"/>
            </a:b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2010-11-17</a:t>
            </a:r>
            <a:br>
              <a:rPr sz="4000"/>
            </a:b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Dokumentas 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(lot. </a:t>
            </a:r>
            <a:r>
              <a:rPr b="0" i="1" lang="lt-LT" sz="4000" spc="-1" strike="noStrike">
                <a:solidFill>
                  <a:srgbClr val="000000"/>
                </a:solidFill>
                <a:latin typeface="Arial"/>
              </a:rPr>
              <a:t>documentum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mokantis pavyzdys, liudijimas, įrodymas. Tai priemon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įvairiais būdais ant specialios medžiagos fiksuoti informaciją ap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aktus, įvykius, objektyvios tikrovės reiškinius ir žmogaus mąsty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veikl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u dokumento sąvoka susiję ir terminai: dokumentavim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okumentų apyvarta, dokumentų valdymas (nuo 2005 metų pakeit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ąvoką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raštvedyb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tsižvelgiant į naujoves, kurios pradėtos taikyti pasaulyje darbo s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okumentais srityje, Tarptautinė standartų organizacija siūlo nauj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okumento sąvokos apibrėžim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Dokumentas – informacijos laikmena ir šioje laikmeno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užfiksuoti pastovūs duomenys, kuriuos gali perskaityti žmo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arba mašina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Dokumentų spausdin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kumentai spausdinami vienoje lapo pusėje, jei kiti teisė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ktai nenustato kita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kumentai, kuriems nustatytas ne ilgesnis nei 25 met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augojimo terminas, gali būti spausdinami abiejose lapo pusė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kumento, spausdinamo keliuose lapuose, numeruoja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ntras ir tolesni lapai, jei kiti teisės aktai nenustato kitaip. Lap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umeruojami viršutinės paraštės viduryje arabiškais skaitmenimis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aškų ir brūkšnelių. Dokumento lapai gali būti numeruojami nurod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lapo numerį ir bendrą dokumento lapų skaičių, pvz.: 1-5 (1 – la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umeris, 5 – bendras dokumento lapų skaičiu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Dokumentų valdy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Įstaigų veikla, susijusi su valdymo veiklos dokumentavimu 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darbo su dokumentais organizavimu, vadinama įstaig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dokumentų valdy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kumentų valdymas apima visus darbo su dokumentais proces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dokumentų rengimą ir įforminim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spausdinimą ir dauginim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korespondencijos priėmimą ir išsiuntim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perdavimą įmonės vidu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vykdymo kontrol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sisteminim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parengimą saugojimui ir naudojimu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informacijos apie dokumentus operatyvų pateikim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Dokumentų valdy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Dokumentų valdymas –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varbus valdymo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elementas. Jis turi būti tvarkomas taip, kad padėtų organizuoti 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obulinti valdymą. Gerai tvarkoma dokumentacija, racionali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šnaudojami informacijos šaltiniai paspartina darbus, nesukeld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en, kur dokumentų valdymas apleistas, neišvengiam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usiduriama su nenumatytomis kliūtimis, nes netvarkingi dokument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gaišina laiką ir trukdo operatyviai dirbti. Kiekvienais metais kanceliarini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arbų apimtis vidutiniškai padidėja 1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Įmonėje turi būti nustatyta dokumentų sudarymo ir darbo 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jais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vieninga tvarka,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uri gali būti patvirtinta dokumentų valdy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nstrukci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Dokumentų valdymo </a:t>
            </a:r>
            <a:br>
              <a:rPr sz="4000"/>
            </a:b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organizavimo tiksl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. Pačios įstaigos ir kitų asmenų poreikiams tenki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2. Apsaugoti nuo sugadinimo, prarad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3. Apsaugoti nuo neteisėto naudojimo, pakeitimo, naiki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R dokumentų ir archyvų įstatymo 10 straipsnio nuostata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“Valstybės ir savivaldybės institucijos, įstaigos ir įmonės veiklos dokumentai turi būti efektyviai valdomi ir prieinami jos pačios ir kitų asmenų poreikiams tenkinti, apsaugoti nuo sugadinimo, praradimo, neteisėto naudojimo, pakeitimo, naiki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Dokumentų valdymo organizav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kumentų tvarkymo ir apskaitos taisyklėse nustatomi šie įmonės dokumentų valdymo organizavimo tiksl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1. Laiku ir kokybiškai parengti dokumen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2. Tvarkyti ir valdyti dokumentus taip, kad būtų užtikrintas greitas priėjimas prie visų turimų dokument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3. Užtikrinti skaidrią, efektyvią veiklą, administravimo ir atsiskaitymo gebėjim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4. Dokumentus išsaugoti reikiamą laiką, kad būtų užtikrinti įstaigos veiklos įrodymai ir su  įstaigos veikla susijusių fizinių bei juridinių asmenų teisė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Už įstaigos dokumentų valdymo organizavimą ir kontrolę y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atsakingas įstaigos vadovas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r kitas teisės aktų suteiktus įgaliojim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urintis asm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Dokumentų unifikav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okumentų unifikavimas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(lot.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unif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ienodinu) – tai jų vienodinimas pa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formacijos sudėtį ir dokumentų for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nifikavimo tiksl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tatyti dokumentus, reikaling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nkrečiai valdymo funkcij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vienodinti dokumentų for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nifikuoti dokumentų tekst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Dokumentų rengimo taisyklė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grindinis norminis dokument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nustatantis bendruosius dokument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sudarymo reikalavimus, yra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Dokument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rengimo taisyklė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Dokumentų skirsty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1. Teisės aktais tvirtinami dokumentai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Jie nustato pagrindines valstybės institucijų, įstaig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organizacijų ar bendrijų veiklos normas. Tai nuostatai, įstatai (statutai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nstrukcijos, taisyklės, nomenklatū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2. Teisės akt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rodo įstaigos  valdymo veikl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ai nutarimai, sprendimai, potvarkiai, įsakym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3. Įstaigos rengiami dokument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kirti operatyviems reikalams tvarkyti, informaciją perduoti ar ja pasikeisti, faktams ar įvykiams fiksuoti, kai to negalima padaryti žodžiu. Aktai, apžvalgos, pažymos, pažymėjimai, protokolai, raštai, rekomendacijos (charakteristikos) ir t. 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Dokumentų spausdin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ei kiti teisės aktai nenustato kitaip, naudojami ši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ormatų popieriaus lap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4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210 x 297 mm),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5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(148 x 210 mm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5 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(210x148 mm), paliekant tokio pločio paraš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irioji – 30 mm, dešinioji – ne mažesnė kaip 10 m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iršutinė – ne mažesnė kaip 20 m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4 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(297 x 210 mm), paliekant tokio pločio paraš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irioji – ne mažesnė kaip 20 mm, dešinioji – 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ažesnė kaip 10 mm, viršutinė – ne mažesnė kaip 30 m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atinė – ne mažesnė kaip 20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2:34:06Z</dcterms:created>
  <dc:creator>Živilė</dc:creator>
  <dc:description/>
  <dc:language>en-US</dc:language>
  <cp:lastModifiedBy>Vartotojas</cp:lastModifiedBy>
  <dcterms:modified xsi:type="dcterms:W3CDTF">2010-11-16T12:58:51Z</dcterms:modified>
  <cp:revision>38</cp:revision>
  <dc:subject/>
  <dc:title>Slide 1</dc:title>
</cp:coreProperties>
</file>